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  <a:ea typeface="Cordia New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Times New Roman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Times New Roman"/>
                <a:ea typeface="Cordia New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7604-D14D-49C5-9D79-0720628213A0}" type="slidenum">
              <a:rPr b="0" lang="th-TH" sz="1200" spc="-1" strike="noStrike">
                <a:solidFill>
                  <a:srgbClr val="000000"/>
                </a:solidFill>
                <a:latin typeface="Times New Roman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  <a:ea typeface="Cordia New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57F3-42AD-4A58-BDF6-6FF0BEB99D38}" type="slidenum">
              <a:rPr b="0" lang="th-TH" sz="1200" spc="-1" strike="noStrike">
                <a:solidFill>
                  <a:srgbClr val="0e3558"/>
                </a:solidFill>
                <a:latin typeface="Arial"/>
                <a:ea typeface="Cordia New"/>
              </a:rPr>
              <a:t>&lt;number&gt;</a:t>
            </a:fld>
            <a:endParaRPr b="0" lang="en-US" sz="12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3C8-724B-4D11-BB03-12D8BEC0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43F-E85A-47A1-BBDC-809D253E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968-E429-448F-A6E9-561A8381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22B-F30B-4B85-ACCA-DFB5E008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E3D2-E2B5-4572-B903-2FCEE15C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A53C-F080-4CCD-87D6-4717E273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00EF-4E3D-467C-88B3-02A1EFE0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03B7-3C2E-4D51-8030-F0AC01AC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2028-FDF9-447D-A015-59F9744E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97000" y="457200"/>
            <a:ext cx="4114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3738-7167-4BD8-BBFF-C4371CAE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4C68-17B5-4FB2-B230-B19FCEA8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D18-780F-4613-9A96-8CC076C1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B050-3B42-48CD-9E46-3C2218E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DDB5-6154-48D5-84B8-A5CAA8B3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5451-E643-4C85-88A7-AA47DC34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7C29-B9D4-4D35-B584-31113162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572A-D6F8-4749-8F4D-EA495449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812-DAEA-479B-823B-869E58F9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904-781F-4F1A-BB74-F1ED93B1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532-924A-4E4C-8783-B23B3EB1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97000" y="457200"/>
            <a:ext cx="41148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F3D-493A-4C6C-A674-EA094616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373-3E6A-4F06-9A9B-3F30743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330-75BE-4B14-A72F-11A49B96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97000" y="410400"/>
            <a:ext cx="4114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9D8-D3A0-4409-9D21-E122DE6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7920" y="501480"/>
            <a:ext cx="1108080" cy="336600"/>
            <a:chOff x="7920" y="501480"/>
            <a:chExt cx="1108080" cy="336600"/>
          </a:xfrm>
        </p:grpSpPr>
        <p:sp>
          <p:nvSpPr>
            <p:cNvPr id="1" name="Rectangle 20"/>
            <p:cNvSpPr/>
            <p:nvPr/>
          </p:nvSpPr>
          <p:spPr>
            <a:xfrm>
              <a:off x="7920" y="76212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" name="Rectangle 21"/>
            <p:cNvSpPr/>
            <p:nvPr/>
          </p:nvSpPr>
          <p:spPr>
            <a:xfrm>
              <a:off x="7920" y="6778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" name="Rectangle 22"/>
            <p:cNvSpPr/>
            <p:nvPr/>
          </p:nvSpPr>
          <p:spPr>
            <a:xfrm>
              <a:off x="7920" y="58572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" name="Rectangle 2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35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35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410080" y="6450120"/>
            <a:ext cx="2286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D942-4919-4292-8212-1969E56820B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7580160" y="6384960"/>
            <a:ext cx="9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" name="Freeform 53"/>
          <p:cNvSpPr/>
          <p:nvPr/>
        </p:nvSpPr>
        <p:spPr>
          <a:xfrm>
            <a:off x="1143000" y="457200"/>
            <a:ext cx="130320" cy="457200"/>
          </a:xfrm>
          <a:custGeom>
            <a:avLst/>
            <a:gdLst>
              <a:gd name="textAreaLeft" fmla="*/ 0 w 130320"/>
              <a:gd name="textAreaRight" fmla="*/ 130680 w 130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96" h="288">
                <a:moveTo>
                  <a:pt x="96" y="0"/>
                </a:moveTo>
                <a:lnTo>
                  <a:pt x="0" y="0"/>
                </a:lnTo>
                <a:lnTo>
                  <a:pt x="0" y="288"/>
                </a:lnTo>
                <a:lnTo>
                  <a:pt x="96" y="288"/>
                </a:lnTo>
              </a:path>
            </a:pathLst>
          </a:custGeom>
          <a:noFill/>
          <a:ln w="9360">
            <a:solidFill>
              <a:srgbClr val="0e35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2" name="Group 55"/>
          <p:cNvGrpSpPr/>
          <p:nvPr/>
        </p:nvGrpSpPr>
        <p:grpSpPr>
          <a:xfrm>
            <a:off x="5311800" y="457200"/>
            <a:ext cx="3832200" cy="457200"/>
            <a:chOff x="5311800" y="457200"/>
            <a:chExt cx="3832200" cy="457200"/>
          </a:xfrm>
        </p:grpSpPr>
        <p:sp>
          <p:nvSpPr>
            <p:cNvPr id="13" name="Rectangle 47"/>
            <p:cNvSpPr/>
            <p:nvPr/>
          </p:nvSpPr>
          <p:spPr>
            <a:xfrm>
              <a:off x="5432400" y="78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" name="Rectangle 4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" name="Rectangle 4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" name="Rectangle 50"/>
            <p:cNvSpPr/>
            <p:nvPr/>
          </p:nvSpPr>
          <p:spPr>
            <a:xfrm>
              <a:off x="5430960" y="52236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7" name="Freeform 54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4"/>
          <p:cNvSpPr/>
          <p:nvPr/>
        </p:nvSpPr>
        <p:spPr>
          <a:xfrm>
            <a:off x="7683480" y="64008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35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35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35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454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e3558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4286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D0DB-4E3D-4B11-8D9F-9FA3C6A23AF3}" type="slidenum">
              <a:rPr b="0" lang="en-CA" sz="1200" spc="-1" strike="noStrike">
                <a:solidFill>
                  <a:srgbClr val="0e35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2"/>
          <p:cNvSpPr/>
          <p:nvPr/>
        </p:nvSpPr>
        <p:spPr>
          <a:xfrm>
            <a:off x="4408560" y="476280"/>
            <a:ext cx="441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Cordia New"/>
                <a:ea typeface="Cordia New"/>
              </a:rPr>
              <a:t>                                      </a:t>
            </a:r>
            <a:r>
              <a:rPr b="1" lang="en-CA" sz="2400" spc="-1" strike="noStrike">
                <a:solidFill>
                  <a:srgbClr val="ffff00"/>
                </a:solidFill>
                <a:latin typeface="Cordia New"/>
                <a:ea typeface="Cordia New"/>
              </a:rPr>
              <a:t>Volume 1 – DVD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Cordia New"/>
                <a:ea typeface="Cordia New"/>
              </a:rPr>
              <a:t>                         </a:t>
            </a:r>
            <a:r>
              <a:rPr b="1" lang="en-CA" sz="2400" spc="-1" strike="noStrike">
                <a:solidFill>
                  <a:srgbClr val="ffff00"/>
                </a:solidFill>
                <a:latin typeface="Cordia New"/>
                <a:ea typeface="Cordia New"/>
              </a:rPr>
              <a:t>FORMATION MULTIMÉDIA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04" name="Rectangle 13" descr=""/>
          <p:cNvPicPr/>
          <p:nvPr/>
        </p:nvPicPr>
        <p:blipFill>
          <a:blip r:embed="rId2"/>
          <a:stretch/>
        </p:blipFill>
        <p:spPr>
          <a:xfrm>
            <a:off x="-6480" y="3852720"/>
            <a:ext cx="9010800" cy="1743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0" y="3092400"/>
            <a:ext cx="91440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rdia New"/>
                <a:ea typeface="Cordia New"/>
              </a:rPr>
              <a:t>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rdia New"/>
                <a:ea typeface="Cordia New"/>
              </a:rPr>
              <a:t>Auteur, Concepteur et Formateur : ROSE Wesley Jonathan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06" name="Picture 8" descr="IMG000003.jpg"/>
          <p:cNvPicPr/>
          <p:nvPr/>
        </p:nvPicPr>
        <p:blipFill>
          <a:blip r:embed="rId3"/>
          <a:stretch/>
        </p:blipFill>
        <p:spPr>
          <a:xfrm>
            <a:off x="152280" y="182520"/>
            <a:ext cx="35784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world"/>
          <p:cNvPicPr/>
          <p:nvPr/>
        </p:nvPicPr>
        <p:blipFill>
          <a:blip r:embed="rId1"/>
          <a:stretch/>
        </p:blipFill>
        <p:spPr>
          <a:xfrm>
            <a:off x="2195640" y="1125360"/>
            <a:ext cx="2192040" cy="1467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db3e2">
                <a:alpha val="50000"/>
              </a:srgbClr>
            </a:outerShdw>
          </a:effectLst>
        </p:spPr>
      </p:pic>
      <p:sp>
        <p:nvSpPr>
          <p:cNvPr id="108" name="Rounded Rectangle 6"/>
          <p:cNvSpPr/>
          <p:nvPr/>
        </p:nvSpPr>
        <p:spPr>
          <a:xfrm>
            <a:off x="179280" y="5084640"/>
            <a:ext cx="8785440" cy="1079640"/>
          </a:xfrm>
          <a:prstGeom prst="roundRect">
            <a:avLst>
              <a:gd name="adj" fmla="val 16667"/>
            </a:avLst>
          </a:prstGeom>
          <a:solidFill>
            <a:srgbClr val="3b86cb"/>
          </a:solidFill>
          <a:ln w="25560">
            <a:solidFill>
              <a:srgbClr val="296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716360" y="260280"/>
            <a:ext cx="4427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Arial"/>
              </a:rPr>
              <a:t>Ouvrage édité et distribué par 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000"/>
                </a:solidFill>
                <a:latin typeface="Arial"/>
              </a:rPr>
              <a:t>Just Within Reach Consulting Ltd 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Arial"/>
              </a:rPr>
              <a:t>Kestrel Lane, Camp Caval, Curepipe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c000"/>
                </a:solidFill>
                <a:latin typeface="Arial"/>
              </a:rPr>
              <a:t>Tel : 762 9964 / 935 6003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0" y="5013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t ouvrage est publié à des fins d’usage personnel et familiale, toute reproduction, publication ou diffusion en publique est strictement interdit. 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 reproduction sans accord écrit de la part de </a:t>
            </a:r>
            <a:r>
              <a:rPr b="1" lang="fr-FR" sz="1800" spc="-1" strike="noStrike">
                <a:solidFill>
                  <a:srgbClr val="ffc000"/>
                </a:solidFill>
                <a:latin typeface="Arial"/>
              </a:rPr>
              <a:t>Just Within Reach Consulting Lt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ra suite à des poursuites civiles. 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08000" y="69840"/>
            <a:ext cx="286524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179280" y="2708280"/>
            <a:ext cx="896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La pensée positiv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La communication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c000"/>
                </a:solidFill>
                <a:latin typeface="Arial"/>
              </a:rPr>
              <a:t>Les types de personalités 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c000"/>
                </a:solidFill>
                <a:latin typeface="Arial"/>
              </a:rPr>
              <a:t>Ouvrage dédicacé à mon ami et partenaire: Norbert Winifred BIGAIGNON 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3"/>
          <a:stretch/>
        </p:blipFill>
        <p:spPr>
          <a:xfrm>
            <a:off x="6224760" y="2273400"/>
            <a:ext cx="194940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8:09:41Z</dcterms:created>
  <dc:creator>gtech</dc:creator>
  <dc:description/>
  <dc:language>en-US</dc:language>
  <cp:lastModifiedBy>gtech</cp:lastModifiedBy>
  <dcterms:modified xsi:type="dcterms:W3CDTF">2012-11-17T16:57:05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1992059991</vt:lpwstr>
  </property>
</Properties>
</file>