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  <a:ea typeface="Cordia New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  <a:ea typeface="Cordia New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40A4-3C32-463B-9224-65DCEDA0F3CA}" type="slidenum">
              <a:rPr b="0" lang="th-TH" sz="1200" spc="-1" strike="noStrike">
                <a:solidFill>
                  <a:srgbClr val="000000"/>
                </a:solidFill>
                <a:latin typeface="Times New Roman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  <a:ea typeface="Cordia New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0852-1A70-429E-8A87-62506E9D927E}" type="slidenum">
              <a:rPr b="0" lang="th-TH" sz="1200" spc="-1" strike="noStrike">
                <a:solidFill>
                  <a:srgbClr val="0e3558"/>
                </a:solidFill>
                <a:latin typeface="Arial"/>
                <a:ea typeface="Cordia New"/>
              </a:rPr>
              <a:t>&lt;number&gt;</a:t>
            </a:fld>
            <a:endParaRPr b="0" lang="en-US" sz="12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488-31E2-44A9-9372-3DDCDF2D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B2F-4C7C-48FE-8214-7F448B25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A5E-D320-4FB2-AE72-79CCE244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28B-B055-4162-B613-57678465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275B-1941-4A5A-9338-F1177F30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6DFA-9CAD-4C8B-8DAA-BAB445BD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3549-9434-449C-95B4-8D5F68EB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A4F3-DE02-47FF-9292-1A99F9FA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3628-8C25-4413-8661-FA0A470A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97000" y="457200"/>
            <a:ext cx="4114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4388-78FA-40F7-BC2D-F8814778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BDEE-C4D7-4F50-B66B-F402C36A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F51-798A-4FB8-B660-345161F7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63EE-8E09-4166-BC91-896C858E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5FA9-0D78-4213-B97E-C1E17180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E62E-BC7B-472A-86DA-2C8D739D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B5E8-DCD6-4702-A8C3-BB4EFEF3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7E97-3BE1-4F14-B3C4-5B0C9DD0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3A5-1E9B-4BD3-9561-0D0794A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5EF-0F4C-4F79-BA93-61E78D46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D91-CD9D-4E6D-975D-6EC6B446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97000" y="457200"/>
            <a:ext cx="4114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B35-AD0B-4325-90F8-C01A884A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3AA-1216-4172-9E0D-919D1F33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159-79E1-4D43-9823-5281C5F3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3A3-4864-4C10-988A-47283E47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7920" y="501480"/>
            <a:ext cx="1108080" cy="336600"/>
            <a:chOff x="7920" y="501480"/>
            <a:chExt cx="1108080" cy="336600"/>
          </a:xfrm>
        </p:grpSpPr>
        <p:sp>
          <p:nvSpPr>
            <p:cNvPr id="1" name="Rectangle 20"/>
            <p:cNvSpPr/>
            <p:nvPr/>
          </p:nvSpPr>
          <p:spPr>
            <a:xfrm>
              <a:off x="7920" y="76212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" name="Rectangle 21"/>
            <p:cNvSpPr/>
            <p:nvPr/>
          </p:nvSpPr>
          <p:spPr>
            <a:xfrm>
              <a:off x="7920" y="6778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" name="Rectangle 22"/>
            <p:cNvSpPr/>
            <p:nvPr/>
          </p:nvSpPr>
          <p:spPr>
            <a:xfrm>
              <a:off x="7920" y="58572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" name="Rectangle 2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35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35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410080" y="6450120"/>
            <a:ext cx="2286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2B02-5AC2-43DC-8F7B-F589BD9EEB8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7580160" y="6384960"/>
            <a:ext cx="9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" name="Freeform 53"/>
          <p:cNvSpPr/>
          <p:nvPr/>
        </p:nvSpPr>
        <p:spPr>
          <a:xfrm>
            <a:off x="1143000" y="457200"/>
            <a:ext cx="130320" cy="457200"/>
          </a:xfrm>
          <a:custGeom>
            <a:avLst/>
            <a:gdLst>
              <a:gd name="textAreaLeft" fmla="*/ 0 w 130320"/>
              <a:gd name="textAreaRight" fmla="*/ 130680 w 130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96" h="288">
                <a:moveTo>
                  <a:pt x="96" y="0"/>
                </a:moveTo>
                <a:lnTo>
                  <a:pt x="0" y="0"/>
                </a:lnTo>
                <a:lnTo>
                  <a:pt x="0" y="288"/>
                </a:lnTo>
                <a:lnTo>
                  <a:pt x="96" y="288"/>
                </a:lnTo>
              </a:path>
            </a:pathLst>
          </a:custGeom>
          <a:noFill/>
          <a:ln w="9360">
            <a:solidFill>
              <a:srgbClr val="0e35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2" name="Group 55"/>
          <p:cNvGrpSpPr/>
          <p:nvPr/>
        </p:nvGrpSpPr>
        <p:grpSpPr>
          <a:xfrm>
            <a:off x="5311800" y="457200"/>
            <a:ext cx="3832200" cy="457200"/>
            <a:chOff x="5311800" y="457200"/>
            <a:chExt cx="3832200" cy="457200"/>
          </a:xfrm>
        </p:grpSpPr>
        <p:sp>
          <p:nvSpPr>
            <p:cNvPr id="13" name="Rectangle 47"/>
            <p:cNvSpPr/>
            <p:nvPr/>
          </p:nvSpPr>
          <p:spPr>
            <a:xfrm>
              <a:off x="5432400" y="78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" name="Rectangle 4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" name="Rectangle 4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" name="Rectangle 50"/>
            <p:cNvSpPr/>
            <p:nvPr/>
          </p:nvSpPr>
          <p:spPr>
            <a:xfrm>
              <a:off x="5430960" y="52236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7" name="Freeform 54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4"/>
          <p:cNvSpPr/>
          <p:nvPr/>
        </p:nvSpPr>
        <p:spPr>
          <a:xfrm>
            <a:off x="7683480" y="64008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35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35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454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45444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e3558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428640" y="6454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F3B2-382E-42B0-A5AF-2F4D22CFBB31}" type="slidenum">
              <a:rPr b="0" lang="en-CA" sz="1200" spc="-1" strike="noStrike">
                <a:solidFill>
                  <a:srgbClr val="0e35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2"/>
          <p:cNvSpPr/>
          <p:nvPr/>
        </p:nvSpPr>
        <p:spPr>
          <a:xfrm>
            <a:off x="4408560" y="476280"/>
            <a:ext cx="441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Cordia New"/>
                <a:ea typeface="Cordia New"/>
              </a:rPr>
              <a:t>                                      </a:t>
            </a:r>
            <a:r>
              <a:rPr b="1" lang="en-CA" sz="2400" spc="-1" strike="noStrike">
                <a:solidFill>
                  <a:srgbClr val="ffff00"/>
                </a:solidFill>
                <a:latin typeface="Cordia New"/>
                <a:ea typeface="Cordia New"/>
              </a:rPr>
              <a:t>Volume 1 – DVD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Cordia New"/>
                <a:ea typeface="Cordia New"/>
              </a:rPr>
              <a:t>                         </a:t>
            </a:r>
            <a:r>
              <a:rPr b="1" lang="en-CA" sz="2400" spc="-1" strike="noStrike">
                <a:solidFill>
                  <a:srgbClr val="ffff00"/>
                </a:solidFill>
                <a:latin typeface="Cordia New"/>
                <a:ea typeface="Cordia New"/>
              </a:rPr>
              <a:t>FORMATION MULTIMÉDIA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04" name="Rectangle 13" descr=""/>
          <p:cNvPicPr/>
          <p:nvPr/>
        </p:nvPicPr>
        <p:blipFill>
          <a:blip r:embed="rId2"/>
          <a:stretch/>
        </p:blipFill>
        <p:spPr>
          <a:xfrm>
            <a:off x="-6480" y="3852720"/>
            <a:ext cx="9010800" cy="1743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0" y="3092400"/>
            <a:ext cx="91440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rdia New"/>
                <a:ea typeface="Cordia New"/>
              </a:rPr>
              <a:t>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rdia New"/>
                <a:ea typeface="Cordia New"/>
              </a:rPr>
              <a:t>Auteur, Concepteur et Formateur : ROSE Wesley Jonathan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06" name="Picture 8" descr="IMG000003.jpg"/>
          <p:cNvPicPr/>
          <p:nvPr/>
        </p:nvPicPr>
        <p:blipFill>
          <a:blip r:embed="rId3"/>
          <a:stretch/>
        </p:blipFill>
        <p:spPr>
          <a:xfrm>
            <a:off x="152280" y="182520"/>
            <a:ext cx="35784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world"/>
          <p:cNvPicPr/>
          <p:nvPr/>
        </p:nvPicPr>
        <p:blipFill>
          <a:blip r:embed="rId1"/>
          <a:stretch/>
        </p:blipFill>
        <p:spPr>
          <a:xfrm>
            <a:off x="2195640" y="1125360"/>
            <a:ext cx="2192040" cy="1467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db3e2">
                <a:alpha val="50000"/>
              </a:srgbClr>
            </a:outerShdw>
          </a:effectLst>
        </p:spPr>
      </p:pic>
      <p:sp>
        <p:nvSpPr>
          <p:cNvPr id="108" name="Rounded Rectangle 6"/>
          <p:cNvSpPr/>
          <p:nvPr/>
        </p:nvSpPr>
        <p:spPr>
          <a:xfrm>
            <a:off x="179280" y="5084640"/>
            <a:ext cx="8785440" cy="1079640"/>
          </a:xfrm>
          <a:prstGeom prst="roundRect">
            <a:avLst>
              <a:gd name="adj" fmla="val 16667"/>
            </a:avLst>
          </a:prstGeom>
          <a:solidFill>
            <a:srgbClr val="3b86cb"/>
          </a:solidFill>
          <a:ln w="25560">
            <a:solidFill>
              <a:srgbClr val="296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716360" y="260280"/>
            <a:ext cx="44276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Arial"/>
              </a:rPr>
              <a:t>Ouvrage édité et distribué par 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000"/>
                </a:solidFill>
                <a:latin typeface="Arial"/>
              </a:rPr>
              <a:t>Just Within Reach Consulting Ltd 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Arial"/>
              </a:rPr>
              <a:t>Kestrel Lane, Camp Caval, Curepipe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Arial"/>
              </a:rPr>
              <a:t>Tel : 762 9964 / 935 6003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0" y="5013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t ouvrage est publié à des fins d’usage personnel et familiale, toute reproduction, publication ou diffusion en publique est strictement interdit. 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 reproduction sans accord écrit de la part de </a:t>
            </a:r>
            <a:r>
              <a:rPr b="1" lang="fr-FR" sz="1800" spc="-1" strike="noStrike">
                <a:solidFill>
                  <a:srgbClr val="ffc000"/>
                </a:solidFill>
                <a:latin typeface="Arial"/>
              </a:rPr>
              <a:t>Just Within Reach Consulting Lt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ra suite à des poursuites civiles. 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08000" y="69840"/>
            <a:ext cx="286524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179280" y="2708280"/>
            <a:ext cx="896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La pensée positiv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La communication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Les types de personalités 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c000"/>
                </a:solidFill>
                <a:latin typeface="Arial"/>
              </a:rPr>
              <a:t>Ouvrage dédicacé à mon ami et partenaire: Norbert Winifred BIGAIGNON 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6224760" y="2273400"/>
            <a:ext cx="194940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8:09:41Z</dcterms:created>
  <dc:creator>gtech</dc:creator>
  <dc:description/>
  <dc:language>en-US</dc:language>
  <cp:lastModifiedBy>gtech</cp:lastModifiedBy>
  <dcterms:modified xsi:type="dcterms:W3CDTF">2012-11-17T16:57:05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1992059991</vt:lpwstr>
  </property>
</Properties>
</file>